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4D7-FADC-4F29-9195-2CEAAB73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C53-AD13-4CF7-B3EA-D4B0158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311-A948-43BE-A03C-395B0F0E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63A-49BC-465A-88A5-ABF7C858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2CE7-778A-4BEC-9665-2B20FFD0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6B14-E25F-4BBC-9AAB-99AED424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732A-A934-4680-8EDD-579DB8B3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3EA6-D6CF-4EBD-AE69-54BF4A19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E839-0F76-404A-AC4B-4105280D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4280-D04A-4720-9ED3-71CCD9EC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03A5-0B82-4A54-AE02-0C23DE74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834-4F8D-4A80-B47C-6D686FEE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FD17-7C5D-4578-9E5D-B157AB7F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2078-4ED0-41F4-B652-E6CB6F5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4B19-7403-4C0B-A94D-9E9199E9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3BB7-4F1C-4D59-AAEC-4132C02A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9826-81E4-44AC-B0DA-DD6D5350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CD7-F118-4C7F-B37B-81E7B080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C60-1788-4C0B-9E4E-F766CB01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164-8893-4E3F-9C64-9A400750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170-B5D2-4BC1-805E-E0B2E6FF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BD8-5D97-4D90-849D-3C8A579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850-B35C-46D4-8DE6-763604B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216-BB3E-4750-A4CE-6A3B28F5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B3EF-E89A-427A-BF66-2BAA6C8B69F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FC9D-04E4-4675-BBF8-EEDC14CD95B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ol.careerbuilder.com/jobs/keyword/lead+software+engineer/?siteid=cbaol95lst" TargetMode="External"/><Relationship Id="rId2" Type="http://schemas.openxmlformats.org/officeDocument/2006/relationships/hyperlink" Target="http://aol.careerbuilder.com/jobs/keyword/IT+Manager/?siteid=cbaol95lst" TargetMode="External"/><Relationship Id="rId3" Type="http://schemas.openxmlformats.org/officeDocument/2006/relationships/hyperlink" Target="http://aol.careerbuilder.com/jobs/keyword/product+marketing+manager/?siteid=cbaol95lst" TargetMode="External"/><Relationship Id="rId4" Type="http://schemas.openxmlformats.org/officeDocument/2006/relationships/hyperlink" Target="http://aol.careerbuilder.com/jobs/keyword/tax+manager/?siteid=cbaol95lst" TargetMode="External"/><Relationship Id="rId5" Type="http://schemas.openxmlformats.org/officeDocument/2006/relationships/hyperlink" Target="http://aol.careerbuilder.com/jobs/keyword/pharmacist/?siteid=cbaol95lst" TargetMode="External"/><Relationship Id="rId6" Type="http://schemas.openxmlformats.org/officeDocument/2006/relationships/hyperlink" Target="http://aol.careerbuilder.com/jobs/keyword/engineer+manager/?siteid=cbaol95lst" TargetMode="External"/><Relationship Id="rId7" Type="http://schemas.openxmlformats.org/officeDocument/2006/relationships/hyperlink" Target="http://aol.careerbuilder.com/jobs/keyword/sales+director/?siteid=cbaol95lst" TargetMode="External"/><Relationship Id="rId8" Type="http://schemas.openxmlformats.org/officeDocument/2006/relationships/hyperlink" Target="http://aol.careerbuilder.com/jobs/keyword/dentist/?siteid=cbaol95lst" TargetMode="External"/><Relationship Id="rId9" Type="http://schemas.openxmlformats.org/officeDocument/2006/relationships/hyperlink" Target="http://aol.careerbuilder.com/jobs/keyword/physician/?siteid=cbaol95lst" TargetMode="External"/><Relationship Id="rId10" Type="http://schemas.openxmlformats.org/officeDocument/2006/relationships/hyperlink" Target="http://aol.careerbuilder.com/jobs/keyword/psychiatrist/?siteid=cbaol95lst" TargetMode="Externa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areerinfonet.org/occ_rep.asp?next=occ_rep&amp;level=overall&amp;optstatus=110000000&amp;id=&amp;nodeid=2&amp;soccode=291061&amp;stfips=00&amp;jobfam=29" TargetMode="External"/><Relationship Id="rId2" Type="http://schemas.openxmlformats.org/officeDocument/2006/relationships/hyperlink" Target="http://www.careerinfonet.org/occ_rep.asp?next=occ_rep&amp;level=overall&amp;optstatus=110000000&amp;id=&amp;nodeid=2&amp;soccode=291064&amp;stfips=00&amp;jobfam=29" TargetMode="External"/><Relationship Id="rId3" Type="http://schemas.openxmlformats.org/officeDocument/2006/relationships/hyperlink" Target="http://www.careerinfonet.org/occ_rep.asp?next=occ_rep&amp;level=overall&amp;optstatus=110000000&amp;id=&amp;nodeid=2&amp;soccode=291022&amp;stfips=00&amp;jobfam=29" TargetMode="External"/><Relationship Id="rId4" Type="http://schemas.openxmlformats.org/officeDocument/2006/relationships/hyperlink" Target="http://www.careerinfonet.org/occ_rep.asp?next=occ_rep&amp;level=overall&amp;optstatus=110000000&amp;id=&amp;nodeid=2&amp;soccode=291023&amp;stfips=00&amp;jobfam=29" TargetMode="External"/><Relationship Id="rId5" Type="http://schemas.openxmlformats.org/officeDocument/2006/relationships/hyperlink" Target="http://www.careerinfonet.org/occ_rep.asp?next=occ_rep&amp;level=overall&amp;optstatus=110000000&amp;id=&amp;nodeid=2&amp;soccode=291069&amp;stfips=00&amp;jobfam=29" TargetMode="External"/><Relationship Id="rId6" Type="http://schemas.openxmlformats.org/officeDocument/2006/relationships/hyperlink" Target="http://www.careerinfonet.org/occ_rep.asp?next=occ_rep&amp;level=overall&amp;optstatus=110000000&amp;id=&amp;nodeid=2&amp;soccode=291067&amp;stfips=00&amp;jobfam=29" TargetMode="External"/><Relationship Id="rId7" Type="http://schemas.openxmlformats.org/officeDocument/2006/relationships/hyperlink" Target="http://www.careerinfonet.org/occ_rep.asp?next=occ_rep&amp;level=overall&amp;optstatus=110000000&amp;id=&amp;nodeid=2&amp;soccode=291063&amp;stfips=00&amp;jobfam=29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k yourself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materials we just used wer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tende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to be used in science instruc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gn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fr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895480" y="617220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rac4la.files.wordpress.com/2013/01/bp_oil_spill_bird.png"/>
          <p:cNvPicPr/>
          <p:nvPr/>
        </p:nvPicPr>
        <p:blipFill>
          <a:blip r:embed="rId2"/>
          <a:stretch/>
        </p:blipFill>
        <p:spPr>
          <a:xfrm>
            <a:off x="1066680" y="990720"/>
            <a:ext cx="764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beauty in everything, but       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onfuci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urriculum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in everything, but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90720" y="42670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iculum materials embody the intentions of the developers imperfect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complex and comprehensive materials may yield a richer array of possible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may be possible to use rather limited and standard materials and to create exciting and motivating experien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is possible to use materials that were not intended for teaching in creative ways to support curriculu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Interpreta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ers do not simply implement curriculum, they also interpre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“reading” of curriculum potential depends not only on the inherent qualities of the materials, but also, to a large extent, on the teachers’ interpretive abilities and on their professional imagin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xplicit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n as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ormal 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offici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although those terms do have slightly different implications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dden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 as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form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is a sense in the idea of the “hidden curriculum” that students are learning things that are not stated, but that they are held accountable for in informal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sed on what is considered “normal”, which brings in the concept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hegemo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gemo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ituation in which one state or way of being/knowing predomina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the hegemonic condition is an implicit part of a culture, going unstated and unrecognized because it is simply considered norm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gemony is usually promoted by the implicit messages presented in a 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Picture 2" descr="http://seedmagazine.com/stateofscience/img/stateofscience/draw-a-scientist2.jpg"/>
          <p:cNvPicPr/>
          <p:nvPr/>
        </p:nvPicPr>
        <p:blipFill>
          <a:blip r:embed="rId1"/>
          <a:stretch/>
        </p:blipFill>
        <p:spPr>
          <a:xfrm>
            <a:off x="1962000" y="2149560"/>
            <a:ext cx="59817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ull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left out, either intentionally or unintentionally, from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ons about what are included or not in a curriculum—what becomes the null curriculum—are always political, even when (especially when) they are unintention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6" descr="http://www.siteselection.com/ssinsider/special/images/sr110113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 we include it?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ademy awa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ocus events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rg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oduction – 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BP oil spil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ealt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ways social power is gained, given, taken, lost, denied, and 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nce “knowledge is power”, anything that contributes to or detracts from opportunities to learn is inherently poli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curriculum construction affects opportunities to learn, it is a political a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n In-Demand Jobs at 6 Figur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0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Lead Software Engine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9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IT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8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 Market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Tax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harmac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Engineer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Sales Directo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Dent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Physician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Psychiatr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ttp://jobs.aol.com/articles/2013/02/06/six-figure-jobs-in-demand/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ghest Paying Job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2170080"/>
          <a:ext cx="7543800" cy="384984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1371600"/>
                <a:gridCol w="2057400"/>
              </a:tblGrid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1"/>
                        </a:rPr>
                        <a:t>Anesthesi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Obstetricians and Gynec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Oral and Maxillofacial 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4"/>
                        </a:rPr>
                        <a:t>Orthodont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5"/>
                        </a:rPr>
                        <a:t>Physicians and Surgeons, All Oth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6"/>
                        </a:rPr>
                        <a:t>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7"/>
                        </a:rPr>
                        <a:t>Internists, Genera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8.06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3,2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sychiatr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1.9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70,4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amily and General Practition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9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7,0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hief Executiv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5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6,900 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1326240" y="62467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.S. Department of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iculum interpretation gives insight into different levels of the curriculum—the explicit, hidden, and null curricu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ce different levels of the curriculum are recognized, the teacher can set out to implement, enhance, or augment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washingtonpost.com/wp-srv/special/local/inauguration-2013/obama-inauguration-then-and-now/img/BEFORES-jefferson-memorial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 ELED, is it OK to discuss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aut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environm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un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62320" y="502920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www.bloomberg.com/image/iOqzHPjCvpQM.jpg"/>
          <p:cNvPicPr/>
          <p:nvPr/>
        </p:nvPicPr>
        <p:blipFill>
          <a:blip r:embed="rId2"/>
          <a:stretch/>
        </p:blipFill>
        <p:spPr>
          <a:xfrm>
            <a:off x="1935000" y="2154240"/>
            <a:ext cx="5791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energyboom.com/sites/default/files/imagecache/nodeFull/bp-oil-spill_3.jpg"/>
          <p:cNvPicPr/>
          <p:nvPr/>
        </p:nvPicPr>
        <p:blipFill>
          <a:blip r:embed="rId2"/>
          <a:stretch/>
        </p:blipFill>
        <p:spPr>
          <a:xfrm>
            <a:off x="1036800" y="1143000"/>
            <a:ext cx="7650000" cy="510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036800" y="5867280"/>
            <a:ext cx="7650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5" descr="https://encrypted-tbn2.gstatic.com/images?q=tbn:ANd9GcTInN2_aGDO-lZDmK3zHhDTagFMHjo6E58fja2S4WHt9OQFTkXf"/>
          <p:cNvPicPr/>
          <p:nvPr/>
        </p:nvPicPr>
        <p:blipFill>
          <a:blip r:embed="rId1"/>
          <a:stretch/>
        </p:blipFill>
        <p:spPr>
          <a:xfrm>
            <a:off x="1143000" y="1066680"/>
            <a:ext cx="755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Picture 5" descr="http://l1.yimg.com/bt/api/res/1.2/sGyxpCN7ObwUJEyOqHN99Q--/YXBwaWQ9eW5ld3M7Y2g9MjQ0Njtjcj0xO2N3PTMyNjQ7ZHg9MDtkeT0wO2ZpPXVsY3JvcDtoPTQ3MztxPTg1O3c9NjMw/http:/l.yimg.com/os/152/2012/04/20/98606587-jpg_15541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229520" cy="541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s://encrypted-tbn2.gstatic.com/images?q=tbn:ANd9GcTsGnY8EKGywkBuh322LShYeHAZZSwAnVdLomqCopjaQsoqzrI1"/>
          <p:cNvPicPr/>
          <p:nvPr/>
        </p:nvPicPr>
        <p:blipFill>
          <a:blip r:embed="rId2"/>
          <a:stretch/>
        </p:blipFill>
        <p:spPr>
          <a:xfrm>
            <a:off x="1066680" y="1447920"/>
            <a:ext cx="764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6:50:26Z</dcterms:created>
  <dc:creator>its</dc:creator>
  <dc:description/>
  <dc:language>en-US</dc:language>
  <cp:lastModifiedBy>Administrator</cp:lastModifiedBy>
  <dcterms:modified xsi:type="dcterms:W3CDTF">2013-02-25T18:47:11Z</dcterms:modified>
  <cp:revision>177</cp:revision>
  <dc:subject/>
  <dc:title>Curriculum Potential </dc:title>
</cp:coreProperties>
</file>